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arrow.wav" ContentType="audio/x-wav"/>
  <Override PartName="/ppt/media/click.wav" ContentType="audio/x-wav"/>
  <Override PartName="/ppt/media/whoosh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A15-8B8B-492B-BFCE-01779B60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295-79D6-4687-AC6D-DC98D44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F3C-93BC-4B1D-B45C-144C27DC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4C8-D18D-48AD-99B3-063AA472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22-34DA-448C-94F0-907B40B3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E8B-ACF4-4E33-BD64-7925EC24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3E9-19EE-4D66-93B1-AC805E7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2B2-236F-4CFA-AE66-6A295D61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54D-059A-44FC-8C68-501E2B3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3E4-C89E-43B7-9CB1-1D80FDC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064-4062-4E97-9DF2-331F55A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51C-2A7C-4ECA-9859-8B4796C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40D-5CC5-4399-BE1F-3DB13676C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o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467200">
            <a:off x="838080" y="456840"/>
            <a:ext cx="24386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seri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 rot="1286400">
            <a:off x="5943600" y="685440"/>
            <a:ext cx="199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at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6"/>
          <p:cNvSpPr txBox="1"/>
          <p:nvPr/>
        </p:nvSpPr>
        <p:spPr>
          <a:xfrm rot="20970600">
            <a:off x="380880" y="5562720"/>
            <a:ext cx="33912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iendly let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 rot="1074600">
            <a:off x="5943240" y="5638680"/>
            <a:ext cx="2579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404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ity and st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404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a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places we should use a comma in second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words in a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a city and a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the day and year in a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the greeting and closing in a friendly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have three or more words in a series, use a comma to separate the items.  These can be nouns, verbs, or ad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ilk, bread, and bu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cookies are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delicious, delightful, and delec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help me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wash the dishes, dust the furniture, and vacuum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es an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ma to separat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edina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Orlando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onolulu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Los Angeles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ma to separate the day and the year in a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9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1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Friendly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 should follow the gr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Mr. Hays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he closing of a letter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friend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3505320" y="2514600"/>
            <a:ext cx="2133360" cy="763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895120" y="4876920"/>
            <a:ext cx="2133720" cy="759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676520" y="5486400"/>
            <a:ext cx="2133360" cy="763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8:38Z</dcterms:created>
  <dc:creator> </dc:creator>
  <dc:description/>
  <dc:language>en-US</dc:language>
  <cp:lastModifiedBy>teacher</cp:lastModifiedBy>
  <dcterms:modified xsi:type="dcterms:W3CDTF">2011-03-05T09:23:50Z</dcterms:modified>
  <cp:revision>3</cp:revision>
  <dc:subject/>
  <dc:title>Using Commas</dc:title>
</cp:coreProperties>
</file>